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219456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99E4-8755-4CFE-919D-0A61D3755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960E-012D-4AB9-93BC-61C22EBA7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015E-238F-4304-A6C7-91B943FD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1865304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3217400"/>
            <a:ext cx="1865304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85E5-7FD0-460C-8135-E56CE245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321740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321740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856C-BF8E-4D48-80E0-AF69DFE3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633996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633996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321740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321740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321740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A45-3E83-4B4C-A4FD-3D01AF12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6339960"/>
            <a:ext cx="18653040" cy="13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1B20-32FC-4C43-B8EB-B79C1FB0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1865304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493-E1C9-4EE9-9B33-5B10063B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A037-89A5-44CF-A918-D355EE48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B4FD-1E92-460A-B04E-E0AC6242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1951200"/>
            <a:ext cx="18653040" cy="169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48F-CBCD-48B2-A1DA-DE07A22D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321740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25E-CFCD-4019-A4B7-BFC1FC53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321740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4BF-486B-490B-958D-6EB27ED5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3217400"/>
            <a:ext cx="1865304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584-C1CA-41EA-A773-E298350B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6339960"/>
            <a:ext cx="1865304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marL="939960" indent="-93996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1" marL="2038320" indent="-78408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2" marL="3135240" indent="-62712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3" marL="4389480" indent="-62712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4" marL="5643720" indent="-62712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5" marL="5643720" indent="-62712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6" marL="5643720" indent="-62712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19994400"/>
            <a:ext cx="4572000" cy="14637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19994400"/>
            <a:ext cx="6950160" cy="14637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19994400"/>
            <a:ext cx="4572000" cy="14637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6A9D-94BA-48E4-B9B3-560E1F29973D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5"/>
          <p:cNvSpPr/>
          <p:nvPr/>
        </p:nvSpPr>
        <p:spPr>
          <a:xfrm>
            <a:off x="0" y="56386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>
            <a:off x="0" y="1097280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"/>
          <p:cNvSpPr/>
          <p:nvPr/>
        </p:nvSpPr>
        <p:spPr>
          <a:xfrm>
            <a:off x="0" y="163828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556272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1097280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1638288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Rectangle 7" descr=""/>
          <p:cNvPicPr/>
          <p:nvPr/>
        </p:nvPicPr>
        <p:blipFill>
          <a:blip r:embed="rId1"/>
          <a:stretch/>
        </p:blipFill>
        <p:spPr>
          <a:xfrm>
            <a:off x="4071960" y="-1243080"/>
            <a:ext cx="8461440" cy="6491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8"/>
          <p:cNvSpPr/>
          <p:nvPr/>
        </p:nvSpPr>
        <p:spPr>
          <a:xfrm>
            <a:off x="6494040" y="16851240"/>
            <a:ext cx="31615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c000"/>
                </a:solidFill>
                <a:latin typeface="Arial"/>
              </a:rPr>
              <a:t>N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2054960" y="11125080"/>
            <a:ext cx="2932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17465400" y="5867280"/>
            <a:ext cx="2932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003300"/>
                </a:solidFill>
                <a:latin typeface="Arial"/>
              </a:rPr>
              <a:t>S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tangle 11" descr=""/>
          <p:cNvPicPr/>
          <p:nvPr/>
        </p:nvPicPr>
        <p:blipFill>
          <a:blip r:embed="rId2"/>
          <a:stretch/>
        </p:blipFill>
        <p:spPr>
          <a:xfrm>
            <a:off x="9497880" y="-1231920"/>
            <a:ext cx="8442360" cy="6473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2"/>
          <p:cNvSpPr/>
          <p:nvPr/>
        </p:nvSpPr>
        <p:spPr>
          <a:xfrm>
            <a:off x="1234800" y="5791320"/>
            <a:ext cx="2932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cc3300"/>
                </a:solidFill>
                <a:latin typeface="Arial"/>
              </a:rPr>
              <a:t>P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12134520" y="5867280"/>
            <a:ext cx="36187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cc99ff"/>
                </a:solidFill>
                <a:latin typeface="Arial"/>
              </a:rPr>
              <a:t>M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7551000" y="5791320"/>
            <a:ext cx="132660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92d050"/>
                </a:solidFill>
                <a:latin typeface="Arial"/>
              </a:rPr>
              <a:t>I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17616600" y="11049120"/>
            <a:ext cx="270144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00b0f0"/>
                </a:solidFill>
                <a:latin typeface="Arial"/>
              </a:rPr>
              <a:t>L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17619120" y="0"/>
            <a:ext cx="31615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3399"/>
                </a:solidFill>
                <a:latin typeface="Arial"/>
              </a:rPr>
              <a:t>C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1312200" y="0"/>
            <a:ext cx="31615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009999"/>
                </a:solidFill>
                <a:latin typeface="Arial"/>
              </a:rPr>
              <a:t>U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1309680" y="11125080"/>
            <a:ext cx="270144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9900"/>
                </a:solidFill>
                <a:latin typeface="Arial"/>
              </a:rPr>
              <a:t>Z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Rectangle 19" descr=""/>
          <p:cNvPicPr/>
          <p:nvPr/>
        </p:nvPicPr>
        <p:blipFill>
          <a:blip r:embed="rId3"/>
          <a:stretch/>
        </p:blipFill>
        <p:spPr>
          <a:xfrm>
            <a:off x="4114800" y="9820440"/>
            <a:ext cx="7985160" cy="64735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0"/>
          <p:cNvSpPr/>
          <p:nvPr/>
        </p:nvSpPr>
        <p:spPr>
          <a:xfrm>
            <a:off x="17390520" y="16851240"/>
            <a:ext cx="31615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ff99"/>
                </a:solidFill>
                <a:latin typeface="Arial"/>
              </a:rPr>
              <a:t>R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12056400" y="16851240"/>
            <a:ext cx="31615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008000"/>
                </a:solidFill>
                <a:latin typeface="Arial"/>
              </a:rPr>
              <a:t>B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1309680" y="16851240"/>
            <a:ext cx="270144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7030a0"/>
                </a:solidFill>
                <a:latin typeface="Arial"/>
              </a:rPr>
              <a:t>F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2"/>
          <p:cNvSpPr/>
          <p:nvPr/>
        </p:nvSpPr>
        <p:spPr>
          <a:xfrm>
            <a:off x="0" y="56386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0" y="1097280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0" y="163828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>
            <a:off x="556272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1097280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>
            <a:off x="1638288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7394480" y="16851240"/>
            <a:ext cx="4075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7030a0"/>
                </a:solidFill>
                <a:latin typeface="Arial"/>
              </a:rPr>
              <a:t>W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17543880" y="11277720"/>
            <a:ext cx="33901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1979000" y="11277720"/>
            <a:ext cx="2932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003300"/>
                </a:solidFill>
                <a:latin typeface="Arial"/>
              </a:rPr>
              <a:t>X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1977920" y="16851240"/>
            <a:ext cx="270144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33ccff"/>
                </a:solidFill>
                <a:latin typeface="Arial"/>
              </a:rPr>
              <a:t>T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6870960" y="11201400"/>
            <a:ext cx="24757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00ff"/>
                </a:solidFill>
                <a:latin typeface="Arial"/>
              </a:rPr>
              <a:t>J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6646320" y="16851240"/>
            <a:ext cx="31615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00b050"/>
                </a:solidFill>
                <a:latin typeface="Arial"/>
              </a:rPr>
              <a:t>H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1234800" y="11353680"/>
            <a:ext cx="29329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9900"/>
                </a:solidFill>
                <a:latin typeface="Arial"/>
              </a:rPr>
              <a:t>V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1159920" y="16851240"/>
            <a:ext cx="31615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3399"/>
                </a:solidFill>
                <a:latin typeface="Arial"/>
              </a:rPr>
              <a:t>A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Rectangle 15" descr=""/>
          <p:cNvPicPr/>
          <p:nvPr/>
        </p:nvPicPr>
        <p:blipFill>
          <a:blip r:embed="rId1"/>
          <a:stretch/>
        </p:blipFill>
        <p:spPr>
          <a:xfrm>
            <a:off x="9448920" y="4638600"/>
            <a:ext cx="8210520" cy="64738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6"/>
          <p:cNvSpPr/>
          <p:nvPr/>
        </p:nvSpPr>
        <p:spPr>
          <a:xfrm>
            <a:off x="6570000" y="5943600"/>
            <a:ext cx="3161520" cy="50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500" spc="-1" strike="noStrike">
                <a:solidFill>
                  <a:srgbClr val="ff0000"/>
                </a:solidFill>
                <a:latin typeface="Arial"/>
              </a:rPr>
              <a:t>K</a:t>
            </a:r>
            <a:endParaRPr b="0" lang="en-US" sz="3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23:33:49Z</dcterms:created>
  <dc:creator>Karen Reynolds</dc:creator>
  <dc:description/>
  <dc:language>en-US</dc:language>
  <cp:lastModifiedBy>kdowns</cp:lastModifiedBy>
  <dcterms:modified xsi:type="dcterms:W3CDTF">2007-10-18T19:35:22Z</dcterms:modified>
  <cp:revision>17</cp:revision>
  <dc:subject/>
  <dc:title>PowerPoint Presentation</dc:title>
</cp:coreProperties>
</file>